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A10E-9BC6-4BAB-9A01-5B94B91D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3087-6C18-4EEC-BD3D-3EF3A951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923-6B4F-4EB0-9221-C9394BB4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0B8-81BE-465C-ACD7-68A3621D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E2DC-B9E7-4F84-B6A4-A70572AD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AB4A-7988-4FF2-BD4E-238BF4B8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C03C-3FDB-474A-9331-25B6F9D2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B8D7-0D2A-493B-A454-7A74C2E4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497D-E3AF-4049-86B2-29615BBE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1C0C-703C-47F3-8CA5-020D99A7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D1CE-9691-496B-89FD-52B3A09D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E3D-0FA4-426D-94EA-4EF20F6D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D3AD-BDB7-4FE9-A915-AD566229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5597-2393-49F8-A578-CE9EDFE7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369E-3A12-4429-BEA3-4DDF4CFF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B037-08BD-4D5E-B42F-1C62359E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CB79-6EA3-4BCA-B6F6-7D6D1FA1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E99-C407-42EE-9C13-BAE3FD52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AAC-3764-496B-AC5F-7440069E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82D-A775-48CB-9B28-4E6A6DA7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B46-DAA3-4014-9F3E-347019A7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F38-A0A8-4D5D-9AF8-E2200F0B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649-B201-4050-AB91-FC32892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EE7-F626-4610-A416-13EE694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030A-ECD0-46A4-B083-84C819BA9CAC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C591-62CE-48F2-9F3D-59DFC192E6A0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SPECIAL AND VULNERABLE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ohamed Nasheed became president of Maldiv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He was the president of 360,000 peopl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rew attenion by setting aside money out to buy new land so his country won’t have to relocat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8798040" y="542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12:23Z</dcterms:created>
  <dc:creator>PA Department of Education</dc:creator>
  <dc:description/>
  <dc:language>en-US</dc:language>
  <cp:lastModifiedBy>PA Department of Education</cp:lastModifiedBy>
  <dcterms:modified xsi:type="dcterms:W3CDTF">2009-05-29T16:23:34Z</dcterms:modified>
  <cp:revision>5</cp:revision>
  <dc:subject/>
  <dc:title>THE FIRST DEMOCRATICALLY ELECTED PRESIDENT IN THIS COUNTRY</dc:title>
</cp:coreProperties>
</file>